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79280" y="659124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1FA9248-4E42-4685-809B-47ED90380874}" type="datetime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822240" y="1042920"/>
            <a:ext cx="760104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em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ddressable memory within flash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odul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and interface circuit (Wrap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Arrays, I/O buffers, read an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th and associated contro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guous blocks of memory cells which,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dded together, create the memory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circuitry between Flash co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pum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generators and associated contro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3840" y="471600"/>
            <a:ext cx="4819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 device flash Termi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98960" y="65232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.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746280" y="334800"/>
            <a:ext cx="778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rray variables used by Flash algorithms and JTAG lo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190512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4382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41360" y="187488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9080" y="408456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2080" y="195120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660680" y="156996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36640" y="32464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4038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50532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65040" y="355140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55760" y="4084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41360" y="240840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736640" y="25606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914400"/>
            <a:ext cx="4267080" cy="5334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098960" y="1036800"/>
            <a:ext cx="40752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0h  - PRG_bufaddr 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1h  - PRG_bufsize  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2h  - PRG_devsiz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3h  - PRG_paddr - Defined and used 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4h  - PRG_page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5h  - PRG_length - Defined and 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6h  - PRG_status - 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7h  - Temp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8h  - PROTECT - Segment protect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9h  - FL_ST - Segment start address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ah  - FL_END  - Segment end address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bh  - FL_LEN  - Segment length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0ch  - PRG_END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380988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48120" y="914400"/>
            <a:ext cx="914400" cy="3124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8120" y="4572000"/>
            <a:ext cx="914400" cy="1676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355760" y="355140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517680" y="1798560"/>
            <a:ext cx="77691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Registers          Address                       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_CT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register. The most significant 8- bits enable specific seg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rasure or programmation. Setting a bit to 1 enables the seg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ast significant bits control the program, erase and verif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of the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 for 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ddress. Holds address during writ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AT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ata. Hold data during writ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828800"/>
            <a:ext cx="8001000" cy="2438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1337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32080" y="623880"/>
            <a:ext cx="6132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ntrol registers in register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28760" y="5256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067600" y="6343560"/>
            <a:ext cx="9050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09480" y="304920"/>
            <a:ext cx="8229600" cy="5651280"/>
            <a:chOff x="609480" y="304920"/>
            <a:chExt cx="8229600" cy="5651280"/>
          </a:xfrm>
        </p:grpSpPr>
        <p:sp>
          <p:nvSpPr>
            <p:cNvPr id="289" name=""/>
            <p:cNvSpPr txBox="1"/>
            <p:nvPr/>
          </p:nvSpPr>
          <p:spPr>
            <a:xfrm>
              <a:off x="669960" y="326880"/>
              <a:ext cx="8061480" cy="562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control register SEG_C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           Bit addres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e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Description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. This bit initiates and ends programming and erasing of the flash arra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 and KEY 0/1 bits must be written in the same write access. This protocol 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be followed for programmation to occur. After the required programming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XE bit should be cleared in the same write as KEY0/1 bits. The data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 latches are locked whenever the EXE bit is set and all attempts to r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or write to the array will be ignored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ASE         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tes erasure setup. Set this bit to perform the erase operation. The ER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 must be set prior to setting EXE bi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           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write logic. Set this  bit to perform a write operation. The WRITE bit m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prior to setting EXE b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1 mode.          Proper erasure and programmation levels are acheiv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ing these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0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0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key bits .These bits must be written as 01 in the same access as EXE 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XE operation to start. These bits are used as additional protection again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advertent programmation or erasure of the flash. These bits are read as zer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r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7-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-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enable bits. Each segment enable bit individually protects or enables wri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erase operation for each of the segments in the flash array. Bit 8 contr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0 and bit 15 controls the segment 7 of the flash arra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80" y="304920"/>
              <a:ext cx="8229600" cy="563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80" y="685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480" y="1066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2286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480" y="2819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429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4191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48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62120" y="2590920"/>
            <a:ext cx="7696080" cy="1676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4852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4674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94040" y="4041720"/>
            <a:ext cx="488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479840" y="4041720"/>
            <a:ext cx="51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13360" y="4041720"/>
            <a:ext cx="51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622840" y="4041720"/>
            <a:ext cx="51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232680" y="4041720"/>
            <a:ext cx="51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42160" y="4041720"/>
            <a:ext cx="577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451640" y="404172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0773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061480" y="4041720"/>
            <a:ext cx="419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46483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48769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51055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4267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106668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89480" y="404172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2240" y="4041720"/>
            <a:ext cx="298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1374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6042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9944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38496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754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656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5616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9466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4800600"/>
            <a:ext cx="28195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248520" y="4267080"/>
            <a:ext cx="0" cy="53352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09880" y="5334120"/>
            <a:ext cx="1828800" cy="0"/>
          </a:xfrm>
          <a:prstGeom prst="line">
            <a:avLst/>
          </a:prstGeom>
          <a:ln w="38160">
            <a:solidFill>
              <a:srgbClr val="91919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35053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276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575080" y="34750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register  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_CTR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                 0x40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575080" y="32464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gister - Reserved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1h                 0x400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75080" y="30178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ddress  register 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2h                 0x400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75080" y="27892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ata  register      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3h                 0x4003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28195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346480" y="2560680"/>
            <a:ext cx="505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Wrapper/ Control  Regist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sh0 registers  - Flash1 regi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2080" y="3736800"/>
            <a:ext cx="1187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b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70360" y="134136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1828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1828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04080" y="5108400"/>
            <a:ext cx="14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Pump and Cont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660680" y="4651200"/>
            <a:ext cx="1521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 0 - 2k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2080" y="5184720"/>
            <a:ext cx="1463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7- 2k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70160" y="395280"/>
            <a:ext cx="4762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core interfa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79440" y="5794200"/>
            <a:ext cx="1668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2kx8 = 16k 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651040" y="318960"/>
            <a:ext cx="382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emory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60680" y="1012680"/>
            <a:ext cx="592128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rray Organization   : Flash0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 - 0000h -3FF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 - 4000h -7FF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uppl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: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v only( 4.9v to 5.10v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 segment siz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egments max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 byte minimum segment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i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clock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 tim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function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/ Erase/ Program/ controlled by cDSP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leng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 words of DS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, Erase,Writing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422440" y="1881360"/>
            <a:ext cx="431172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 of Flash bit programm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0 in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1 in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/Cod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0 in selecte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70160" y="928800"/>
            <a:ext cx="4665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Programming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1905120"/>
            <a:ext cx="1905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3505320"/>
            <a:ext cx="1905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752480"/>
            <a:ext cx="129528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84560" y="149400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0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O address -0xff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84560" y="385596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1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O address -0xff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546880" y="1569960"/>
            <a:ext cx="2033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  - 0x0000h- 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546880" y="3246480"/>
            <a:ext cx="2033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  - 0x4000h- 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76720" y="1874880"/>
            <a:ext cx="1420560" cy="274680"/>
            <a:chOff x="3276720" y="1874880"/>
            <a:chExt cx="1420560" cy="274680"/>
          </a:xfrm>
        </p:grpSpPr>
        <p:sp>
          <p:nvSpPr>
            <p:cNvPr id="62" name=""/>
            <p:cNvSpPr/>
            <p:nvPr/>
          </p:nvSpPr>
          <p:spPr>
            <a:xfrm>
              <a:off x="3276720" y="19051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67080" y="1905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251240" y="187488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276720" y="4237200"/>
            <a:ext cx="1420560" cy="274680"/>
            <a:chOff x="3276720" y="4237200"/>
            <a:chExt cx="1420560" cy="274680"/>
          </a:xfrm>
        </p:grpSpPr>
        <p:sp>
          <p:nvSpPr>
            <p:cNvPr id="66" name=""/>
            <p:cNvSpPr/>
            <p:nvPr/>
          </p:nvSpPr>
          <p:spPr>
            <a:xfrm>
              <a:off x="3276720" y="4267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7080" y="42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251240" y="423720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1828800" y="5257800"/>
            <a:ext cx="53341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0            Flash Mode                  Function                                  Reset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Array m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ormal memory access                 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   Register mode         Flash array programming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51460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81952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5146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37339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28195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057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65240" y="2865600"/>
            <a:ext cx="83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32280" y="2255760"/>
            <a:ext cx="933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65440" y="2560680"/>
            <a:ext cx="684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75480" y="2560680"/>
            <a:ext cx="144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x8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75480" y="4084560"/>
            <a:ext cx="144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x8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36640" y="4998960"/>
            <a:ext cx="249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 register contro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5257800"/>
            <a:ext cx="51055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65240" y="623880"/>
            <a:ext cx="5148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kx16 Flash Array control log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432080" y="547560"/>
            <a:ext cx="5880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_chip Flash programming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819520"/>
            <a:ext cx="9907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895480"/>
            <a:ext cx="91440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819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895480"/>
            <a:ext cx="68580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819520"/>
            <a:ext cx="1295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28600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70560" y="2865600"/>
            <a:ext cx="687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70360" y="24843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S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3840" y="3017880"/>
            <a:ext cx="7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65640" y="3322800"/>
            <a:ext cx="1538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ation / Debu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98760" y="2484360"/>
            <a:ext cx="839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6680" y="2865600"/>
            <a:ext cx="42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69960" y="33480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 Memory map used for Flash programming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loader PRG2XXW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58128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9625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27560" y="1569960"/>
            <a:ext cx="1535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32480" y="26370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79440" y="33228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765840" y="17226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76720" y="2941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5040" y="3475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5040" y="492300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65840" y="324648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41360" y="543240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and flash code   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895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0844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76720" y="3398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76720" y="39322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-0x3e7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4290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51240" y="34750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27560" y="416088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pace used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fla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cks 2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4880" y="3703680"/>
            <a:ext cx="17668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words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51240" y="2941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17680" y="41112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Memory variables and functions used in Flash programming using JTAG loader PRG2XXW.EX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58128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1911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84560" y="370368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27560" y="156996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56160" y="28656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79440" y="33228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2160" y="14940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5440" y="438948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479840" y="4389480"/>
            <a:ext cx="12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5040" y="3475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65040" y="492300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2160" y="294156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65040" y="543240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and flash code   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13560" y="126540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184560" y="416088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4267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84560" y="4770360"/>
            <a:ext cx="9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3352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613560" y="2712960"/>
            <a:ext cx="9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18480" y="210348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2160" y="3551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657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31240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60880" y="317016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251240" y="37036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3248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74880" y="3703680"/>
            <a:ext cx="17668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words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51240" y="3170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669960" y="33480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- Memory map used for Flash programming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loader PRG2XXW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60020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9625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51240" y="1569960"/>
            <a:ext cx="1535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32480" y="26370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79440" y="1265400"/>
            <a:ext cx="1517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P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765840" y="17226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76720" y="2941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27560" y="416088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7680" y="37036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C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7680" y="4541760"/>
            <a:ext cx="684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c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765840" y="324648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41360" y="5432400"/>
            <a:ext cx="7926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code in Data spac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2895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0844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76720" y="3398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76720" y="39322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-0x3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4290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08440" y="42372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6462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8000-0x83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79440" y="347508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D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73392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03480" y="385596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pace used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fla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cks 20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800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660680" y="49230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51240" y="34750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03480" y="1722600"/>
            <a:ext cx="176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 words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51240" y="2941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517680" y="41112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Memory variables and functions used in Flash programming using JTAG loader PRG2XXW.EX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160020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184560" y="370368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51240" y="156996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32480" y="28656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32080" y="1341360"/>
            <a:ext cx="1517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P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42160" y="14940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7680" y="164628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80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69960" y="39322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C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42160" y="294156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41360" y="5432400"/>
            <a:ext cx="82026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code in data spac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12952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613560" y="126540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5040" y="370368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4038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65040" y="4770360"/>
            <a:ext cx="9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3352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613560" y="2712960"/>
            <a:ext cx="9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918480" y="210348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42160" y="3551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3657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1240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60880" y="317016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51240" y="37036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3248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32080" y="347508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D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373392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84360" y="3932280"/>
            <a:ext cx="12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355760" y="1798560"/>
            <a:ext cx="176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 words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51240" y="3170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Instruments</dc:creator>
  <dc:description/>
  <dc:language>en-US</dc:language>
  <cp:lastModifiedBy>Texas Instruments</cp:lastModifiedBy>
  <cp:revision>0</cp:revision>
  <dc:subject/>
  <dc:title>Flash Programming</dc:title>
</cp:coreProperties>
</file>