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280" y="6591240"/>
            <a:ext cx="5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32D1346-6276-4473-87E9-7BC2B990D09F}" type="datetime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2240" y="1042920"/>
            <a:ext cx="760104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ddressable memory within flash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odu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and interface circuit (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rrays, I/O buffers, read 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h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s of memory cells which,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dded together, create the memor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circuitry between Flash 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generators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3840" y="471600"/>
            <a:ext cx="4826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device flash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98960" y="65232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746280" y="334800"/>
            <a:ext cx="778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variables used by Flash algorithms and JTAG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19051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4382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1360" y="187488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89080" y="408456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2080" y="195120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60680" y="15699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36640" y="32464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038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5053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65040" y="355140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355760" y="4084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1360" y="240840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36640" y="25606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914400"/>
            <a:ext cx="4267080" cy="5334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98960" y="1036800"/>
            <a:ext cx="40831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h  - PRG_bufaddr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1h  - PRG_bufsize 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2h  - PRG_devsiz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3h  - PRG_paddr - Defined and used 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4h  - PRG_page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5h  - PRG_length - Defined and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6h  - PRG_status -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7h  - Temp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8h  - PROTECT - Segment protect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9h  - FL_ST - Segment start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ah  - FL_END  - Segment end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bh  - FL_LEN  - Segment length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ch  - PRG_END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38098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914400"/>
            <a:ext cx="914400" cy="3124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572000"/>
            <a:ext cx="914400" cy="1676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55760" y="355140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7680" y="1798560"/>
            <a:ext cx="7769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Registers          Address                       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_CT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. The most significant 8- bits enable specific seg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rasure or programmation. Setting a bit to 1 enables the seg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st significant bits control the program, erase and verif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of the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. Holds address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. Hold data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828800"/>
            <a:ext cx="800100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1337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32080" y="62388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ntrol registers in register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5256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067600" y="6343560"/>
            <a:ext cx="9050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09480" y="304920"/>
            <a:ext cx="8229600" cy="5651280"/>
            <a:chOff x="609480" y="304920"/>
            <a:chExt cx="8229600" cy="5651280"/>
          </a:xfrm>
        </p:grpSpPr>
        <p:sp>
          <p:nvSpPr>
            <p:cNvPr id="290" name=""/>
            <p:cNvSpPr txBox="1"/>
            <p:nvPr/>
          </p:nvSpPr>
          <p:spPr>
            <a:xfrm>
              <a:off x="669960" y="326880"/>
              <a:ext cx="8061480" cy="562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control register SEG_C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           Bit addres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Description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. This bit initiates and ends programming and erasing of the flash arr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and KEY 0/1 bits must be written in the same write access. This protocol 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be followed for programmation to occur. After the required programming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XE bit should be cleared in the same write as KEY0/1 bits. The data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latches are locked whenever the EXE bit is set and all attempts to 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or write to the array will be ignored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ASE         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tes erasure setup. Set this bit to perform the erase operation. The 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 must be set prior to setting EXE bi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           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write logic. Set this  bit to perform a write operation. The WRITE bit m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or to setting EXE b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1 mode.          Proper erasure and programmation levels are acheiv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ing these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0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key bits .These bits must be written as 01 in the same access as EXE 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XE operation to start. These bits are used as additional protection again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advertent programmation or erasure of the flash. These bits are read as zer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7-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-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enable bits. Each segment enable bit individually protects or enables wri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erase operation for each of the segments in the flash array. Bit 8 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0 and bit 15 controls the segment 7 of the flash arra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304920"/>
              <a:ext cx="8229600" cy="563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685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1066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2819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3429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4191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48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2120" y="2590920"/>
            <a:ext cx="76960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94040" y="404172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47984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1336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62284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3268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2160" y="4041720"/>
            <a:ext cx="577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451640" y="404172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061480" y="4041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46483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48769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51055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06668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89480" y="404172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4041720"/>
            <a:ext cx="29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137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042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994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3849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754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1656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561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466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4800600"/>
            <a:ext cx="28195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48520" y="4267080"/>
            <a:ext cx="0" cy="5335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809880" y="5334120"/>
            <a:ext cx="1828800" cy="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5053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3276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75080" y="34750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  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_CTR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                 0x4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75080" y="32464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gister - Reserved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1h                 0x400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75080" y="30178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  register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2h                 0x400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75080" y="27892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  register     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3h                 0x4003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28195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346480" y="2560680"/>
            <a:ext cx="505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Wrapper/ Control  Regis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sh0 registers  - Flash1 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2080" y="3736800"/>
            <a:ext cx="1187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70360" y="13413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740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04080" y="5108400"/>
            <a:ext cx="14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 and 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660680" y="4651200"/>
            <a:ext cx="152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 0 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2080" y="5184720"/>
            <a:ext cx="1463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7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70160" y="395280"/>
            <a:ext cx="4767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core interf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279440" y="5794200"/>
            <a:ext cx="166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2kx8 = 16k 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651040" y="318960"/>
            <a:ext cx="382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60680" y="1012680"/>
            <a:ext cx="588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Organization   : Flash0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0000h -3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4000h -7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l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v only( 4.9v to 5.10v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 segment siz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egments max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 byte minimum segmen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i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lock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 tim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function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/ Erase/ Program/ controlled by cDSP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leng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 words of DS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, Erase,Writing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22440" y="1881360"/>
            <a:ext cx="431172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 of Flash bit program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1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/Cod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select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70160" y="928800"/>
            <a:ext cx="4668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Programming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9051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35053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752480"/>
            <a:ext cx="129528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84560" y="14940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0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84560" y="385596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1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46880" y="156996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  - 0x0000h- 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46880" y="324648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  - 0x4000h- 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76720" y="1874880"/>
            <a:ext cx="1420560" cy="274680"/>
            <a:chOff x="3276720" y="1874880"/>
            <a:chExt cx="1420560" cy="274680"/>
          </a:xfrm>
        </p:grpSpPr>
        <p:sp>
          <p:nvSpPr>
            <p:cNvPr id="63" name=""/>
            <p:cNvSpPr/>
            <p:nvPr/>
          </p:nvSpPr>
          <p:spPr>
            <a:xfrm>
              <a:off x="3276720" y="19051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1905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251240" y="187488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76720" y="4237200"/>
            <a:ext cx="1420560" cy="274680"/>
            <a:chOff x="3276720" y="4237200"/>
            <a:chExt cx="1420560" cy="274680"/>
          </a:xfrm>
        </p:grpSpPr>
        <p:sp>
          <p:nvSpPr>
            <p:cNvPr id="67" name=""/>
            <p:cNvSpPr/>
            <p:nvPr/>
          </p:nvSpPr>
          <p:spPr>
            <a:xfrm>
              <a:off x="3276720" y="4267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42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251240" y="42372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828800" y="5257800"/>
            <a:ext cx="53341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0            Flash Mode                  Function                                  Reset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Array m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rmal memory access                 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  Register mode         Flash array programming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514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819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5146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8195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057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65240" y="2865600"/>
            <a:ext cx="83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32280" y="2255760"/>
            <a:ext cx="933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65440" y="256068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75480" y="256068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75480" y="408456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6640" y="4998960"/>
            <a:ext cx="24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 register contro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5257800"/>
            <a:ext cx="5105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65240" y="623880"/>
            <a:ext cx="5153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kx16 Flash Array control lo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32080" y="547560"/>
            <a:ext cx="5884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_chip Flash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81952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895480"/>
            <a:ext cx="9144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819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895480"/>
            <a:ext cx="6858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819520"/>
            <a:ext cx="1295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286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70560" y="2865600"/>
            <a:ext cx="687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70360" y="24843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S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93840" y="3017880"/>
            <a:ext cx="7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65640" y="3322800"/>
            <a:ext cx="153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ation / Debu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98760" y="2484360"/>
            <a:ext cx="839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6680" y="2865600"/>
            <a:ext cx="42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2756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1360" y="5432400"/>
            <a:ext cx="8190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e7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41911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2756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5616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5440" y="438948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479840" y="43894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5040" y="5432400"/>
            <a:ext cx="8190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84560" y="41608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267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18456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5124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79440" y="126540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7680" y="37036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7680" y="454176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c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5432400"/>
            <a:ext cx="7907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08440" y="42372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646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-0x8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7944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73392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03480" y="385596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800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60680" y="49230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03480" y="172260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5124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3248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32080" y="134136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7680" y="164628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69960" y="39322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41360" y="5432400"/>
            <a:ext cx="8185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2952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65040" y="37036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4038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6504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3208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373392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84360" y="39322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5760" y="179856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Instruments</dc:creator>
  <dc:description/>
  <dc:language>en-US</dc:language>
  <cp:lastModifiedBy>Texas Instruments</cp:lastModifiedBy>
  <cp:revision>0</cp:revision>
  <dc:subject/>
  <dc:title>Flash Programming</dc:title>
</cp:coreProperties>
</file>