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79280" y="6591240"/>
            <a:ext cx="57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104E187E-0043-42D2-B8A7-AEE2AB1FCBE6}" type="datetime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22240" y="1042920"/>
            <a:ext cx="760104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memo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addressable memory within flash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Modul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re and interface circuit (Wrapp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re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Arrays, I/O buffers, read an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ath and associated contro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segmen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guous blocks of memory cells which,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dded together, create the memory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app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circuitry between Flash cor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 pum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 generators and associated contro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93840" y="471600"/>
            <a:ext cx="4826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206 device flash Termi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098960" y="65232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.1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746280" y="334800"/>
            <a:ext cx="7788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rray variables used by Flash algorithms and JTAG lo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190512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4382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41360" y="187488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89080" y="4084560"/>
            <a:ext cx="1085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32080" y="1951200"/>
            <a:ext cx="147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660680" y="156996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736640" y="32464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40384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50532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65040" y="3551400"/>
            <a:ext cx="108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355760" y="40845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41360" y="240840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736640" y="25606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914400"/>
            <a:ext cx="4267080" cy="5334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098960" y="1036800"/>
            <a:ext cx="40831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0x31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0h  - PRG_bufaddr 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1h  - PRG_bufsize  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2h  - PRG_devsiz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3h  - PRG_paddr - Defined and used 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4h  - PRG_page -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5h  - PRG_length - Defined and 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6h  - PRG_status - 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7h  - Temp -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8h  - PROTECT - Segment protect used by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9h  - FL_ST - Segment start address used by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ah  - FL_END  - Segment end address used by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bh  - FL_LEN  - Segment length used by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0ch  - PRG_END -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380988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048120" y="914400"/>
            <a:ext cx="914400" cy="31240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4572000"/>
            <a:ext cx="914400" cy="16765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355760" y="355140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517680" y="1798560"/>
            <a:ext cx="77691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Registers          Address                       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_CT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control register. The most significant 8- bits enable specific seg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rasure or programmation. Setting a bit to 1 enables the seg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ast significant bits control the program, erase and verif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of the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rved for 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D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ddress. Holds address during writ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AT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data. Hold data during writ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1828800"/>
            <a:ext cx="8001000" cy="2438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1337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432080" y="623880"/>
            <a:ext cx="6140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ntrol registers in register m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28760" y="5256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8067600" y="6343560"/>
            <a:ext cx="9050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609480" y="304920"/>
            <a:ext cx="8229600" cy="5651280"/>
            <a:chOff x="609480" y="304920"/>
            <a:chExt cx="8229600" cy="5651280"/>
          </a:xfrm>
        </p:grpSpPr>
        <p:sp>
          <p:nvSpPr>
            <p:cNvPr id="290" name=""/>
            <p:cNvSpPr txBox="1"/>
            <p:nvPr/>
          </p:nvSpPr>
          <p:spPr>
            <a:xfrm>
              <a:off x="669960" y="326880"/>
              <a:ext cx="8061480" cy="562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ment control register SEG_C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e           Bit address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e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Description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. This bit initiates and ends programming and erasing of the flash arra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 and KEY 0/1 bits must be written in the same write access. This protocol 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be followed for programmation to occur. After the required programming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EXE bit should be cleared in the same write as KEY0/1 bits. The data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 latches are locked whenever the EXE bit is set and all attempts to re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rom or write to the array will be ignored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ASE         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tes erasure setup. Set this bit to perform the erase operation. The ER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t must be set prior to setting EXE bi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            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 write logic. Set this  bit to perform a write operation. The WRITE bit m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prior to setting EXE b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ify 1 mode.          Proper erasure and programmation levels are acheiv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itoring these b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0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4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ify 0 m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Y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key bits .These bits must be written as 01 in the same access as EXE b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Y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EXE operation to start. These bits are used as additional protection again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advertent programmation or erasure of the flash. These bits are read as zer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S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7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r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7-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-8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ment enable bits. Each segment enable bit individually protects or enables wri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erase operation for each of the segments in the flash array. Bit 8 contro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ment 0 and bit 15 controls the segment 7 of the flash arra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480" y="304920"/>
              <a:ext cx="8229600" cy="5638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480" y="685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9480" y="10666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47920" y="685800"/>
              <a:ext cx="0" cy="525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38280" y="685800"/>
              <a:ext cx="0" cy="525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24080" y="685800"/>
              <a:ext cx="0" cy="525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9480" y="22860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28195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480" y="34290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480" y="41911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9480" y="5257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9480" y="48769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62120" y="2590920"/>
            <a:ext cx="7696080" cy="1676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3868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794040" y="4041720"/>
            <a:ext cx="488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479840" y="4041720"/>
            <a:ext cx="517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013360" y="4041720"/>
            <a:ext cx="517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622840" y="4041720"/>
            <a:ext cx="51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32680" y="4041720"/>
            <a:ext cx="51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42160" y="4041720"/>
            <a:ext cx="577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7451640" y="4041720"/>
            <a:ext cx="565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061480" y="4041720"/>
            <a:ext cx="419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4648320"/>
            <a:ext cx="26668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4876920"/>
            <a:ext cx="26668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5105520"/>
            <a:ext cx="26668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4267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066680"/>
            <a:ext cx="76201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489480" y="404172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22240" y="4041720"/>
            <a:ext cx="298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13744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60428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99444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38496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7548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16564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5616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4668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4800600"/>
            <a:ext cx="28195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48520" y="4267080"/>
            <a:ext cx="0" cy="533520"/>
          </a:xfrm>
          <a:prstGeom prst="line">
            <a:avLst/>
          </a:prstGeom>
          <a:ln w="255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3809880" y="5334120"/>
            <a:ext cx="1828800" cy="0"/>
          </a:xfrm>
          <a:prstGeom prst="line">
            <a:avLst/>
          </a:prstGeom>
          <a:ln w="38160">
            <a:solidFill>
              <a:srgbClr val="91919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35053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3276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575080" y="3475080"/>
            <a:ext cx="4641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control register  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_CTR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                 0x40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575080" y="3246480"/>
            <a:ext cx="4641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gister - Reserved 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1h                 0x4001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575080" y="3017880"/>
            <a:ext cx="4641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ddress  register  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D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2h                 0x4002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575080" y="2789280"/>
            <a:ext cx="4641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Data  register       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AT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3h                 0x4003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28195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346480" y="2560680"/>
            <a:ext cx="505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Wrapper/ Control  Regist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sh0 registers  - Flash1 regi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2080" y="3736800"/>
            <a:ext cx="1187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control b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70360" y="134136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SP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477120" y="1828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57400" y="1828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004080" y="5108400"/>
            <a:ext cx="14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 Pump and Contr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660680" y="4651200"/>
            <a:ext cx="1521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Segment  0 - 2k wor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2080" y="5184720"/>
            <a:ext cx="1463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Segment 7- 2k wor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270160" y="395280"/>
            <a:ext cx="4767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Flash core interfac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279440" y="5794200"/>
            <a:ext cx="1668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re 2kx8 = 16k  wor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651040" y="318960"/>
            <a:ext cx="382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Memory Fe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60680" y="1012680"/>
            <a:ext cx="588960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rray Organization   : Flash0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 - 0000h -3FFF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 - 4000h -7FFF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upply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: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v only( 4.9v to 5.10v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e segment siz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: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segments maxim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k byte minimum segment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im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: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clock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on tim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: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function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: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/ Erase/ Program/ controlled by cDSP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lengt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: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K words of DSP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, Erase,Writing 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422440" y="1881360"/>
            <a:ext cx="4311720" cy="28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s of Flash bit programm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Write 0 in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Write 1 in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/Cod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Write 0 in selected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70160" y="928800"/>
            <a:ext cx="4668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Programming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1905120"/>
            <a:ext cx="19051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3505320"/>
            <a:ext cx="19051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1752480"/>
            <a:ext cx="129528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84560" y="149400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CCESS0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IO address -0xff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84560" y="385596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CCESS1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IO address -0xff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546880" y="1569960"/>
            <a:ext cx="2033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  - 0x0000h- 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546880" y="3246480"/>
            <a:ext cx="2033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  - 0x4000h- 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76720" y="1874880"/>
            <a:ext cx="1420560" cy="274680"/>
            <a:chOff x="3276720" y="1874880"/>
            <a:chExt cx="1420560" cy="274680"/>
          </a:xfrm>
        </p:grpSpPr>
        <p:sp>
          <p:nvSpPr>
            <p:cNvPr id="63" name=""/>
            <p:cNvSpPr/>
            <p:nvPr/>
          </p:nvSpPr>
          <p:spPr>
            <a:xfrm>
              <a:off x="3276720" y="190512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67080" y="19051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4251240" y="1874880"/>
              <a:ext cx="4460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t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276720" y="4237200"/>
            <a:ext cx="1420560" cy="274680"/>
            <a:chOff x="3276720" y="4237200"/>
            <a:chExt cx="1420560" cy="274680"/>
          </a:xfrm>
        </p:grpSpPr>
        <p:sp>
          <p:nvSpPr>
            <p:cNvPr id="67" name=""/>
            <p:cNvSpPr/>
            <p:nvPr/>
          </p:nvSpPr>
          <p:spPr>
            <a:xfrm>
              <a:off x="3276720" y="426708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67080" y="42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4251240" y="4237200"/>
              <a:ext cx="4460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t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 txBox="1"/>
          <p:nvPr/>
        </p:nvSpPr>
        <p:spPr>
          <a:xfrm>
            <a:off x="1828800" y="5257800"/>
            <a:ext cx="53341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0            Flash Mode                  Function                                  Reset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 Array mo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Normal memory access                   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      Register mode         Flash array programming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251460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281952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25146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373392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8195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2057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965240" y="2865600"/>
            <a:ext cx="83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2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32280" y="2255760"/>
            <a:ext cx="933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65440" y="2560680"/>
            <a:ext cx="684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75480" y="2560680"/>
            <a:ext cx="1449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flash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kx8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775480" y="4084560"/>
            <a:ext cx="1449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flash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kx8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36640" y="4998960"/>
            <a:ext cx="2490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CCESS register contro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5257800"/>
            <a:ext cx="51055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965240" y="623880"/>
            <a:ext cx="5153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kx16 Flash Array control log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432080" y="547560"/>
            <a:ext cx="5884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_chip Flash programming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2819520"/>
            <a:ext cx="9907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2895480"/>
            <a:ext cx="91440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2819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895480"/>
            <a:ext cx="68580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2819520"/>
            <a:ext cx="1295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28600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70560" y="2865600"/>
            <a:ext cx="687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70360" y="248436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DS5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93840" y="3017880"/>
            <a:ext cx="7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2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165640" y="3322800"/>
            <a:ext cx="1538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lation / Debu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98760" y="2484360"/>
            <a:ext cx="839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TAG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46680" y="2865600"/>
            <a:ext cx="420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669960" y="334800"/>
            <a:ext cx="778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 - Memory map used for Flash programming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TAG loader PRG2XXW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5238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58128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152388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29718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2057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396252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336840" y="149400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336840" y="202716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327560" y="1569960"/>
            <a:ext cx="1535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6160" y="11890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32480" y="26370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79440" y="33228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765840" y="172260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- 0x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76720" y="29415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65040" y="34750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5040" y="4923000"/>
            <a:ext cx="615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765840" y="324648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00h- 0x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41360" y="5432400"/>
            <a:ext cx="81900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in program space                   Data variables and flash code                     Flash code dest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or Flash1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8954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708440" y="21798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76720" y="33987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-0x31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76720" y="393228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20-0x3e7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34290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51240" y="34750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327560" y="4160880"/>
            <a:ext cx="16574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pace used to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fla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locks 200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4880" y="3703680"/>
            <a:ext cx="17668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space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rol code for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clear, era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unction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6 words 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51240" y="29415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17680" y="411120"/>
            <a:ext cx="778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 Memory variables and functions used in Flash programming using JTAG loader PRG2XXW.EX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15238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358128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152388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29718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2057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419112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36840" y="149400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184560" y="3703680"/>
            <a:ext cx="1085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 -0x31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327560" y="1569960"/>
            <a:ext cx="147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56160" y="11890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56160" y="28656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79440" y="33228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42160" y="149400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- 0x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5440" y="4389480"/>
            <a:ext cx="64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2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479840" y="4389480"/>
            <a:ext cx="1216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d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65040" y="34750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65040" y="4923000"/>
            <a:ext cx="615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42160" y="294156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00h- 0x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65040" y="5432400"/>
            <a:ext cx="81900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in program space                   Data variables and flash code                     Flash code dest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or Flash1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613560" y="1265400"/>
            <a:ext cx="920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184560" y="4160880"/>
            <a:ext cx="103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buf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42670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184560" y="4770360"/>
            <a:ext cx="979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buf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1905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19051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33526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613560" y="2712960"/>
            <a:ext cx="903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0" y="3352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918480" y="210348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2160" y="355140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36576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31240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260880" y="3170160"/>
            <a:ext cx="108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51240" y="37036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336840" y="202716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32480" y="21798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74880" y="3703680"/>
            <a:ext cx="17668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space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rol code for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clear, era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unction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6 words 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51240" y="3170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69960" y="334800"/>
            <a:ext cx="778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- Memory map used for Flash programming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TAG loader PRG2XXW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15238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60020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152388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29718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2057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396252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336840" y="149400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336840" y="202716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251240" y="1569960"/>
            <a:ext cx="1535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56160" y="11890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32480" y="26370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79440" y="1265400"/>
            <a:ext cx="1517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in PM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765840" y="172260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- 0x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76720" y="29415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27560" y="4160880"/>
            <a:ext cx="1657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17680" y="37036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C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7680" y="4541760"/>
            <a:ext cx="684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c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765840" y="324648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00h- 0x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5432400"/>
            <a:ext cx="79074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in program space                   Data variable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Flash code dest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code in Data space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Flash0 or Flash1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28954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708440" y="21798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76720" y="33987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-0x31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76720" y="393228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20-0x3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34290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708440" y="42372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6462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8000-0x83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79440" y="347508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in DM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373392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203480" y="3855960"/>
            <a:ext cx="16574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pace used to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fla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locks 2000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48006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660680" y="49230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251240" y="34750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03480" y="1722600"/>
            <a:ext cx="17668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space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rol code for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clear, era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4  words m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251240" y="29415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517680" y="411120"/>
            <a:ext cx="778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Memory variables and functions used in Flash programming using JTAG loader PRG2XXW.EX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15238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160020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152388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9718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2057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336840" y="149400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184560" y="3703680"/>
            <a:ext cx="1085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51240" y="1569960"/>
            <a:ext cx="147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56160" y="11890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32480" y="28656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32080" y="1341360"/>
            <a:ext cx="1517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in PM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42160" y="149400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- 0x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17680" y="164628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80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69960" y="39322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C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42160" y="294156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00h- 0x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41360" y="5432400"/>
            <a:ext cx="8185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in program space                   Data variable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Flash code dest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code in data space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Flash0 or Flash1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12952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613560" y="1265400"/>
            <a:ext cx="920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65040" y="3703680"/>
            <a:ext cx="103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buf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40384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65040" y="4770360"/>
            <a:ext cx="979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buf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905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9051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33526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613560" y="2712960"/>
            <a:ext cx="903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3352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918480" y="210348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42160" y="355140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36576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67080" y="31240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60880" y="3170160"/>
            <a:ext cx="108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51240" y="37036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336840" y="202716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32480" y="21798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32080" y="347508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in DM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373392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584360" y="3932280"/>
            <a:ext cx="1216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d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55760" y="1798560"/>
            <a:ext cx="17668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space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rol code for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clear, era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4  words m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251240" y="3170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xas Instruments</dc:creator>
  <dc:description/>
  <dc:language>en-US</dc:language>
  <cp:lastModifiedBy>Texas Instruments</cp:lastModifiedBy>
  <cp:revision>0</cp:revision>
  <dc:subject/>
  <dc:title>Flash Programming</dc:title>
</cp:coreProperties>
</file>