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179280" y="6591240"/>
            <a:ext cx="2541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4B97C64E-6F3B-4F7D-A4AF-F58BCC1EE5EA}" type="datetime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76120" y="204840"/>
            <a:ext cx="8553600" cy="6281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7915320" y="6496200"/>
            <a:ext cx="905040" cy="30168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 txBox="1"/>
          <p:nvPr/>
        </p:nvSpPr>
        <p:spPr>
          <a:xfrm>
            <a:off x="822240" y="1042920"/>
            <a:ext cx="7601040" cy="50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memor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addressable memory within flash 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Modul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core and interface circuit (Wrapp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Core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ory Arrays, I/O buffers, read and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ath and associated control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segment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guous blocks of memory cells which, w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dded together, create the memory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app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 circuitry between Flash core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ge pum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tage generators and associated control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93840" y="471600"/>
            <a:ext cx="4819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206 device flash Termin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098960" y="6523200"/>
            <a:ext cx="717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.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76120" y="204840"/>
            <a:ext cx="8553600" cy="6281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7915320" y="6496200"/>
            <a:ext cx="905040" cy="3016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746280" y="334800"/>
            <a:ext cx="7788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array variables used by Flash algorithms and JTAG lo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190512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71600" y="243828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41360" y="1874880"/>
            <a:ext cx="958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60 -0x69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89080" y="4084560"/>
            <a:ext cx="1085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p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10 -0x30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432080" y="1951200"/>
            <a:ext cx="147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JT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660680" y="1569960"/>
            <a:ext cx="1017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2 -DA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736640" y="3246480"/>
            <a:ext cx="1017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 -DA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371600" y="403848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371600" y="350532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65040" y="3551400"/>
            <a:ext cx="1085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00 -0x30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355760" y="40845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2xxpr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lash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41360" y="2408400"/>
            <a:ext cx="925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6a -0x7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736640" y="25606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62520" y="914400"/>
            <a:ext cx="4267080" cy="5334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098960" y="1036800"/>
            <a:ext cx="407520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pa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0x310 -0x30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10h  - PRG_bufaddr 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JTAG lo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11h  - PRG_bufsize  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JTAG lo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12h  - PRG_devsiz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JTAG lo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13h  - PRG_paddr - Defined and used  by JTAG lo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14h  - PRG_page -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15h  - PRG_length - Defined and used by JTAG lo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16h  - PRG_status - Used by JTAG lo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17h  - Temp -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18h  - PROTECT - Segment protect used by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19h  - FL_ST - Segment start address used by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1ah  - FL_END  - Segment end address used by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1bh  - FL_LEN  - Segment length used by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10ch  - PRG_END -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62520" y="3809880"/>
            <a:ext cx="426708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048120" y="914400"/>
            <a:ext cx="914400" cy="312408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48120" y="4572000"/>
            <a:ext cx="914400" cy="167652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355760" y="355140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ry  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flash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76120" y="204840"/>
            <a:ext cx="8553600" cy="6281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915320" y="6496200"/>
            <a:ext cx="905040" cy="3016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517680" y="1798560"/>
            <a:ext cx="77691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Registers          Address                       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_CT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ment control register. The most significant 8- bits enable specific segm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rasure or programmation. Setting a bit to 1 enables the seg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east significant bits control the program, erase and verif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s of the seg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rved for te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D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ddress. Holds address during write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DAT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data. Hold data during write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1828800"/>
            <a:ext cx="8001000" cy="2438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213372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432080" y="623880"/>
            <a:ext cx="61326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control registers in register mo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428760" y="52560"/>
            <a:ext cx="8553600" cy="6281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8067600" y="6343560"/>
            <a:ext cx="905040" cy="301680"/>
          </a:xfrm>
          <a:prstGeom prst="rect">
            <a:avLst/>
          </a:prstGeom>
          <a:ln w="0">
            <a:noFill/>
          </a:ln>
        </p:spPr>
      </p:pic>
      <p:grpSp>
        <p:nvGrpSpPr>
          <p:cNvPr id="288" name=""/>
          <p:cNvGrpSpPr/>
          <p:nvPr/>
        </p:nvGrpSpPr>
        <p:grpSpPr>
          <a:xfrm>
            <a:off x="609480" y="304920"/>
            <a:ext cx="8229600" cy="5651280"/>
            <a:chOff x="609480" y="304920"/>
            <a:chExt cx="8229600" cy="5651280"/>
          </a:xfrm>
        </p:grpSpPr>
        <p:sp>
          <p:nvSpPr>
            <p:cNvPr id="289" name=""/>
            <p:cNvSpPr txBox="1"/>
            <p:nvPr/>
          </p:nvSpPr>
          <p:spPr>
            <a:xfrm>
              <a:off x="669960" y="326880"/>
              <a:ext cx="8061480" cy="5629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gment control register SEG_CT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me           Bit address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tive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Description    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E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ecute. This bit initiates and ends programming and erasing of the flash array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E and KEY 0/1 bits must be written in the same write access. This protocol 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 be followed for programmation to occur. After the required programming t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EXE bit should be cleared in the same write as KEY0/1 bits. The data an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ress latches are locked whenever the EXE bit is set and all attempts to re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rom or write to the array will be ignored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RASE            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iates erasure setup. Set this bit to perform the erase operation. The ER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it must be set prior to setting EXE bi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RITE            2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able write logic. Set this  bit to perform a write operation. The WRITE bit mu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t prior to setting EXE bit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R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3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rify 1 mode.          Proper erasure and programmation levels are acheived 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nitoring these bi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R0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4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erify 0 mo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EY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5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ecute key bits .These bits must be written as 01 in the same access as EXE b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EY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6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 EXE operation to start. These bits are used as additional protection again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advertent programmation or erasure of the flash. These bits are read as zero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SY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7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erv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G7-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-8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gment enable bits. Each segment enable bit individually protects or enables writ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erase operation for each of the segments in the flash array. Bit 8 contro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gment 0 and bit 15 controls the segment 7 of the flash array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9480" y="304920"/>
              <a:ext cx="8229600" cy="5638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9480" y="6858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9480" y="10666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47920" y="685800"/>
              <a:ext cx="0" cy="5257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38280" y="685800"/>
              <a:ext cx="0" cy="5257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24080" y="685800"/>
              <a:ext cx="0" cy="5257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9480" y="22860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09480" y="28195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4290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9480" y="41911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9480" y="52578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09480" y="48769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76120" y="204840"/>
            <a:ext cx="8553600" cy="6281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7915320" y="6496200"/>
            <a:ext cx="905040" cy="30168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762120" y="2590920"/>
            <a:ext cx="7696080" cy="1676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3962520"/>
            <a:ext cx="3808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143000" y="3962520"/>
            <a:ext cx="3808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523880" y="3962520"/>
            <a:ext cx="3808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905120" y="3962520"/>
            <a:ext cx="3808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3962520"/>
            <a:ext cx="3808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962520"/>
            <a:ext cx="3808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048120" y="3962520"/>
            <a:ext cx="3808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809880" y="396252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419720" y="396252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029200" y="396252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638680" y="396252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248520" y="396252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858000" y="396252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467480" y="396252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29000" y="3962520"/>
            <a:ext cx="3808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794040" y="4041720"/>
            <a:ext cx="4888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479840" y="4041720"/>
            <a:ext cx="5176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013360" y="4041720"/>
            <a:ext cx="5176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622840" y="4041720"/>
            <a:ext cx="511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 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232680" y="4041720"/>
            <a:ext cx="511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842160" y="4041720"/>
            <a:ext cx="577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7451640" y="4041720"/>
            <a:ext cx="565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077320" y="3962520"/>
            <a:ext cx="3808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061480" y="4041720"/>
            <a:ext cx="4190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43000" y="4648320"/>
            <a:ext cx="266688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066680" y="4876920"/>
            <a:ext cx="266688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5105520"/>
            <a:ext cx="266688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42670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657600" y="42670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62120" y="1066680"/>
            <a:ext cx="762012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489480" y="4041720"/>
            <a:ext cx="241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822240" y="4041720"/>
            <a:ext cx="298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8137440" y="3736800"/>
            <a:ext cx="241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7604280" y="3736800"/>
            <a:ext cx="241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994440" y="3736800"/>
            <a:ext cx="241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6384960" y="3736800"/>
            <a:ext cx="241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775480" y="3736800"/>
            <a:ext cx="241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165640" y="3736800"/>
            <a:ext cx="241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56160" y="3736800"/>
            <a:ext cx="241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946680" y="3736800"/>
            <a:ext cx="241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638680" y="4800600"/>
            <a:ext cx="281952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248520" y="4267080"/>
            <a:ext cx="0" cy="533520"/>
          </a:xfrm>
          <a:prstGeom prst="line">
            <a:avLst/>
          </a:prstGeom>
          <a:ln w="2556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3809880" y="5334120"/>
            <a:ext cx="1828800" cy="0"/>
          </a:xfrm>
          <a:prstGeom prst="line">
            <a:avLst/>
          </a:prstGeom>
          <a:ln w="38160">
            <a:solidFill>
              <a:srgbClr val="919191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35053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120" y="3276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62120" y="30481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575080" y="3475080"/>
            <a:ext cx="4641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ment control register  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G_CTR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000h                 0x4000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2575080" y="3246480"/>
            <a:ext cx="4641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register - Reserved -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001h                 0x4001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575080" y="3017880"/>
            <a:ext cx="4641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ddress  register  -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D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002h                 0x4002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2575080" y="2789280"/>
            <a:ext cx="4641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Data  register       -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DAT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003h                 0x4003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28195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2346480" y="2560680"/>
            <a:ext cx="50515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Wrapper/ Control  Regist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lash0 registers  - Flash1 regi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432080" y="3736800"/>
            <a:ext cx="1187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ment control b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70360" y="1341360"/>
            <a:ext cx="1017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SP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477120" y="182880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057400" y="182880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004080" y="5108400"/>
            <a:ext cx="14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ge Pump and Contro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660680" y="4651200"/>
            <a:ext cx="1521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Segment  0 - 2k word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2080" y="5184720"/>
            <a:ext cx="14637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Segment 7- 2k word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270160" y="395280"/>
            <a:ext cx="47624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k word Flash core interfac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279440" y="5794200"/>
            <a:ext cx="1668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Core 2kx8 = 16k  word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76120" y="204840"/>
            <a:ext cx="8553600" cy="6281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915320" y="6496200"/>
            <a:ext cx="905040" cy="301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651040" y="318960"/>
            <a:ext cx="382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Memory Fea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660680" y="1012680"/>
            <a:ext cx="5921280" cy="39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array Organization   : Flash0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k word  - 0000h -3FFF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1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k word  - 4000h -7FFF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supply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: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v only( 4.9v to 5.10v)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ase segment siz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: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segments maxim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k byte minimum segment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im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: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clock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ion tim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: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ory functions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: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/ Erase/ Program/ controlled by cDSP c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hm length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: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K words of DSP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, Erase,Writing 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76120" y="204840"/>
            <a:ext cx="8553600" cy="6281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915320" y="6496200"/>
            <a:ext cx="905040" cy="301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422440" y="1881360"/>
            <a:ext cx="4311720" cy="28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ges of Flash bit programm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Write 0 in all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asing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Write 1 in all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/Coding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Write 0 in selected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70160" y="928800"/>
            <a:ext cx="46656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Programming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76120" y="204840"/>
            <a:ext cx="8553600" cy="6281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915320" y="6496200"/>
            <a:ext cx="905040" cy="301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562720" y="1905120"/>
            <a:ext cx="190512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62720" y="3505320"/>
            <a:ext cx="190512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1752480"/>
            <a:ext cx="1295280" cy="2819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184560" y="1494000"/>
            <a:ext cx="1530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ACCESS0 regi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IO address -0xffe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184560" y="3855960"/>
            <a:ext cx="1530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ACCESS1 regi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IO address -0xff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546880" y="1569960"/>
            <a:ext cx="2033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0 array  - 0x0000h- 3f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546880" y="3246480"/>
            <a:ext cx="2033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1 array  - 0x4000h- 7f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276720" y="1874880"/>
            <a:ext cx="1420560" cy="274680"/>
            <a:chOff x="3276720" y="1874880"/>
            <a:chExt cx="1420560" cy="274680"/>
          </a:xfrm>
        </p:grpSpPr>
        <p:sp>
          <p:nvSpPr>
            <p:cNvPr id="62" name=""/>
            <p:cNvSpPr/>
            <p:nvPr/>
          </p:nvSpPr>
          <p:spPr>
            <a:xfrm>
              <a:off x="3276720" y="1905120"/>
              <a:ext cx="1371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67080" y="19051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 txBox="1"/>
            <p:nvPr/>
          </p:nvSpPr>
          <p:spPr>
            <a:xfrm>
              <a:off x="4251240" y="1874880"/>
              <a:ext cx="4460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it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276720" y="4237200"/>
            <a:ext cx="1420560" cy="274680"/>
            <a:chOff x="3276720" y="4237200"/>
            <a:chExt cx="1420560" cy="274680"/>
          </a:xfrm>
        </p:grpSpPr>
        <p:sp>
          <p:nvSpPr>
            <p:cNvPr id="66" name=""/>
            <p:cNvSpPr/>
            <p:nvPr/>
          </p:nvSpPr>
          <p:spPr>
            <a:xfrm>
              <a:off x="3276720" y="4267080"/>
              <a:ext cx="1371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67080" y="4267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 txBox="1"/>
            <p:nvPr/>
          </p:nvSpPr>
          <p:spPr>
            <a:xfrm>
              <a:off x="4251240" y="4237200"/>
              <a:ext cx="4460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it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 txBox="1"/>
          <p:nvPr/>
        </p:nvSpPr>
        <p:spPr>
          <a:xfrm>
            <a:off x="1828800" y="5257800"/>
            <a:ext cx="533412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0            Flash Mode                  Function                                  Reset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          Array mo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Normal memory access                      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              Register mode         Flash array programming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71800" y="251460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71800" y="281952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2514600"/>
            <a:ext cx="0" cy="1219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24280" y="3733920"/>
            <a:ext cx="83844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2819520"/>
            <a:ext cx="0" cy="12189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40384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44197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2057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965240" y="2865600"/>
            <a:ext cx="831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2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P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032280" y="2255760"/>
            <a:ext cx="933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 b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565440" y="2560680"/>
            <a:ext cx="684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775480" y="2560680"/>
            <a:ext cx="1449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k word flash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kx8 seg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775480" y="4084560"/>
            <a:ext cx="1449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k word flash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kx8 seg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736640" y="4998960"/>
            <a:ext cx="2490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ACCESS register contro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52480" y="5257800"/>
            <a:ext cx="5105520" cy="838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965240" y="623880"/>
            <a:ext cx="51483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kx16 Flash Array control log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76120" y="204840"/>
            <a:ext cx="8553600" cy="6281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915320" y="6496200"/>
            <a:ext cx="905040" cy="301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1432080" y="547560"/>
            <a:ext cx="5880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_chip Flash programming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2819520"/>
            <a:ext cx="99072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2895480"/>
            <a:ext cx="91440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86200" y="281952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95680" y="2895480"/>
            <a:ext cx="685800" cy="76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819520"/>
            <a:ext cx="12952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228600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470560" y="2865600"/>
            <a:ext cx="687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70360" y="2484360"/>
            <a:ext cx="755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DS5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193840" y="3017880"/>
            <a:ext cx="77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20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 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165640" y="3322800"/>
            <a:ext cx="1538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ulation / Debug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498760" y="2484360"/>
            <a:ext cx="839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TAG 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46680" y="2865600"/>
            <a:ext cx="420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6120" y="204840"/>
            <a:ext cx="8553600" cy="6281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915320" y="6496200"/>
            <a:ext cx="905040" cy="3016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669960" y="334800"/>
            <a:ext cx="7788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0 - Memory map used for Flash programming u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TAG loader PRG2XXW.E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152388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3581280"/>
            <a:ext cx="1676520" cy="1600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1523880"/>
            <a:ext cx="1676520" cy="10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2971800"/>
            <a:ext cx="167652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205740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3962520"/>
            <a:ext cx="167652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336840" y="1494000"/>
            <a:ext cx="958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60 -0x69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336840" y="2027160"/>
            <a:ext cx="925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6a -0x7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327560" y="1569960"/>
            <a:ext cx="1535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JT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u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56160" y="1189080"/>
            <a:ext cx="1017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2 -DA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32480" y="2637000"/>
            <a:ext cx="1017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 -DA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279440" y="3322800"/>
            <a:ext cx="1017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0 -DA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765840" y="1722600"/>
            <a:ext cx="1263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0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000h- 0x3f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76720" y="294156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00-0x30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65040" y="3475080"/>
            <a:ext cx="666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ff00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65040" y="4923000"/>
            <a:ext cx="615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ff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765840" y="3246480"/>
            <a:ext cx="1263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1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4000h- 0x7f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41360" y="5432400"/>
            <a:ext cx="82551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code in program space                   Data variables and flash code                     Flash code destin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0 or Flash1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137160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72200" y="137160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289548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708440" y="217980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276720" y="339876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10-0x31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276720" y="393228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20-0x3e7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342900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251240" y="347508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2xxpr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lash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327560" y="4160880"/>
            <a:ext cx="16574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pace used to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cod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e flas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blocks 200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74880" y="3703680"/>
            <a:ext cx="17668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code space u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u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control code for fl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 clear, erase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function shoul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6 words m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251240" y="29415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ry  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flash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76120" y="204840"/>
            <a:ext cx="8553600" cy="6281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915320" y="6496200"/>
            <a:ext cx="905040" cy="301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517680" y="411120"/>
            <a:ext cx="7788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0 Memory variables and functions used in Flash programming using JTAG loader PRG2XXW.EX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152388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3581280"/>
            <a:ext cx="1676520" cy="1600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05720" y="1523880"/>
            <a:ext cx="1676520" cy="10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05720" y="2971800"/>
            <a:ext cx="167652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67080" y="205740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4191120"/>
            <a:ext cx="167652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336840" y="1494000"/>
            <a:ext cx="958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60 -0x69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184560" y="3703680"/>
            <a:ext cx="1085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p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10 -0x31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327560" y="1569960"/>
            <a:ext cx="147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JT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56160" y="1189080"/>
            <a:ext cx="1017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2 -DA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56160" y="2865600"/>
            <a:ext cx="1017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 -DA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79440" y="3322800"/>
            <a:ext cx="1017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0 -DA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42160" y="1494000"/>
            <a:ext cx="1263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0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000h- 0x3f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565440" y="4389480"/>
            <a:ext cx="6415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20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479840" y="4389480"/>
            <a:ext cx="12160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code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s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65040" y="3475080"/>
            <a:ext cx="666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ff00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65040" y="4923000"/>
            <a:ext cx="615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ff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42160" y="2941560"/>
            <a:ext cx="1263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1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4000h- 0x7f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65040" y="5432400"/>
            <a:ext cx="82551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code in program space                   Data variables and flash code                     Flash code destin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0 or Flash1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137160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137160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613560" y="1265400"/>
            <a:ext cx="920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pad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184560" y="4160880"/>
            <a:ext cx="1039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bufad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91120" y="42670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184560" y="4770360"/>
            <a:ext cx="979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buf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19051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705720" y="19051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05720" y="33526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613560" y="2712960"/>
            <a:ext cx="903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pad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33526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918480" y="2103480"/>
            <a:ext cx="9381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42160" y="3551400"/>
            <a:ext cx="9381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365760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67080" y="312408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60880" y="3170160"/>
            <a:ext cx="1085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00 -0x30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251240" y="370368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2xxpr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lash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336840" y="2027160"/>
            <a:ext cx="925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6a -0x7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32480" y="217980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74880" y="3703680"/>
            <a:ext cx="17668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code space u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u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control code for fl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 clear, erase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function shoul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6 words m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251240" y="3170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ry  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flash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76120" y="204840"/>
            <a:ext cx="8553600" cy="6281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915320" y="6496200"/>
            <a:ext cx="905040" cy="3016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669960" y="334800"/>
            <a:ext cx="7788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RAM - Memory map used for Flash programming u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TAG loader PRG2XXW.E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267080" y="152388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1600200"/>
            <a:ext cx="1676520" cy="1600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1523880"/>
            <a:ext cx="1676520" cy="10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705720" y="2971800"/>
            <a:ext cx="167652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67080" y="205740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67080" y="3962520"/>
            <a:ext cx="167652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336840" y="1494000"/>
            <a:ext cx="958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60 -0x69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336840" y="2027160"/>
            <a:ext cx="925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6a -0x7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251240" y="1569960"/>
            <a:ext cx="1535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JT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u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56160" y="1189080"/>
            <a:ext cx="1017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2 -DA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32480" y="2637000"/>
            <a:ext cx="1017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 -DA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279440" y="1265400"/>
            <a:ext cx="1517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RAM in PM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765840" y="1722600"/>
            <a:ext cx="1263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0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000h- 0x3f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76720" y="294156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00-0x30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327560" y="4160880"/>
            <a:ext cx="16574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17680" y="3703680"/>
            <a:ext cx="666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C00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17680" y="4541760"/>
            <a:ext cx="684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3c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765840" y="3246480"/>
            <a:ext cx="1263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1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4000h- 0x7f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41360" y="5432400"/>
            <a:ext cx="7926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code in program space                   Data variable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Flash code destin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lash code in Data space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Flash0 or Flash1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137160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72200" y="137160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67080" y="289548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708440" y="217980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276720" y="339876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10-0x31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76720" y="393228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20-0x3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342900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708440" y="423720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64628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8000-0x83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279440" y="347508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RAM in DM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3733920"/>
            <a:ext cx="1676520" cy="10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203480" y="3855960"/>
            <a:ext cx="165744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pace used to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cod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e flas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blocks 2000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480060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660680" y="492300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251240" y="347508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2xxpr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lash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203480" y="1722600"/>
            <a:ext cx="17668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code space u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u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control code for fl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 clear, erase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24  words ma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251240" y="29415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ry  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flash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76120" y="204840"/>
            <a:ext cx="8553600" cy="6281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915320" y="6496200"/>
            <a:ext cx="905040" cy="3016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517680" y="411120"/>
            <a:ext cx="7788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RAM Memory variables and functions used in Flash programming using JTAG loader PRG2XXW.EX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67080" y="152388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1600200"/>
            <a:ext cx="1676520" cy="1600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705720" y="1523880"/>
            <a:ext cx="1676520" cy="10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05720" y="2971800"/>
            <a:ext cx="167652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67080" y="205740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336840" y="1494000"/>
            <a:ext cx="958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60 -0x69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184560" y="3703680"/>
            <a:ext cx="1085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p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10 -0x30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251240" y="1569960"/>
            <a:ext cx="147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JT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56160" y="1189080"/>
            <a:ext cx="1017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2 -DA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32480" y="2865600"/>
            <a:ext cx="1017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 -DA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432080" y="1341360"/>
            <a:ext cx="1517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RAM in PM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42160" y="1494000"/>
            <a:ext cx="1263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0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000h- 0x3f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17680" y="1646280"/>
            <a:ext cx="717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8000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69960" y="3932280"/>
            <a:ext cx="666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C00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842160" y="2941560"/>
            <a:ext cx="1263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1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4000h- 0x7ff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41360" y="5432400"/>
            <a:ext cx="82026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code in program space                   Data variable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Flash code destin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lash code in data space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Flash0 or Flash1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129528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72200" y="137160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613560" y="1265400"/>
            <a:ext cx="920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pad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65040" y="3703680"/>
            <a:ext cx="1039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bufad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95280" y="403848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65040" y="4770360"/>
            <a:ext cx="979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buf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0" y="19051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705720" y="19051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705720" y="33526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613560" y="2712960"/>
            <a:ext cx="903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pad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0" y="33526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918480" y="2103480"/>
            <a:ext cx="9381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842160" y="3551400"/>
            <a:ext cx="9381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G_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67080" y="365760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67080" y="3124080"/>
            <a:ext cx="16765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260880" y="3170160"/>
            <a:ext cx="1085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00 -0x30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251240" y="370368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2xxpr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lash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336840" y="2027160"/>
            <a:ext cx="925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6a -0x7f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32480" y="217980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432080" y="347508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RAM in DM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371600" y="3733920"/>
            <a:ext cx="1676520" cy="1600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584360" y="3932280"/>
            <a:ext cx="12160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code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s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355760" y="1798560"/>
            <a:ext cx="17668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code space u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u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sh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control code for fl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 clear, erase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24  words ma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251240" y="3170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ry  vari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flash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exas Instruments</dc:creator>
  <dc:description/>
  <dc:language>en-US</dc:language>
  <cp:lastModifiedBy>Texas Instruments</cp:lastModifiedBy>
  <cp:revision>0</cp:revision>
  <dc:subject/>
  <dc:title>Flash Programming</dc:title>
</cp:coreProperties>
</file>